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17521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sr-Latn-CS" sz="4800" spc="-1" strike="noStrike">
                <a:solidFill>
                  <a:srgbClr val="ff0000"/>
                </a:solidFill>
                <a:latin typeface="Arial"/>
              </a:rPr>
              <a:t>АЛЕРГИЈСКЕ РЕАКЦИЈЕ ИЗАЗВАНЕ ХРАНОМ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0520" y="4038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Проф.др.Александра Томић-Луч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пец Аt IgЕ- РА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gЕ укупни 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о ↑ у кр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жни тестови- п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овокациони тестови- слепи тест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Биопсија цр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д интолеранције хране и адитива- провокациони тест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ек. нутрициона алергија- испитивањ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Дијета без инкриминисане намернице уз неопходан савет нутриционисте за де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1 и H2 блока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збегавати храну са адитивима код интолер. на адит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екундарна нутрициона алергија- лечење основног 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лергија на храну код атопичара- стабилизатори мастоцита (Ketotif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ИЈАК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Целијачна болест је хронично запаљенско обољење мултифакторске етиологије а настаје као последица полигенетске предиспозиције и изложености глут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енетска предиспозициј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ADQ2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ADQ8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+имунски механиз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накрсна реакција аденовирусних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 глиадина из житног брашна окидач имуног од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раепителни Ly уз губитак архитектонике црева до атрофије ресица и малапсорпц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695160" y="1143000"/>
            <a:ext cx="792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sr-R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На основу клиничко-серолошких и патохистолошких промена целијачна болест се дели на два основна тип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39640" y="2743200"/>
            <a:ext cx="82090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► </a:t>
            </a:r>
            <a:r>
              <a:rPr b="1" i="1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Симптоматски облик</a:t>
            </a:r>
            <a:r>
              <a:rPr b="1" i="1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:</a:t>
            </a:r>
            <a:r>
              <a:rPr b="0" i="1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●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класичном клиничком сл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  ●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нетипичном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моносимптоматском и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    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олигосимптоматском) клиничком сл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► </a:t>
            </a:r>
            <a:r>
              <a:rPr b="1" i="1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Асимптоматски облик</a:t>
            </a:r>
            <a:r>
              <a:rPr b="1" i="1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● 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може бити латентни и потенцијални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бележе се само серолошки параметри неподношење глу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217440" y="1219320"/>
            <a:ext cx="868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Симптоми и знаци целијачне болести после треће године по рођењу а посебно у школском и предшколском узрасту, обично су нетипични и често неприметни</a:t>
            </a:r>
            <a:r>
              <a:rPr b="0" i="1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♦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гастроинтестиналне сметње углавном нису наглаш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♦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повремено се јављају опстипација или дијаре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♦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некад рекурентни абдоминални 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♦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често а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♦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секундарна интолеранција лакт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♦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застој у расту и разво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♦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промене у личности де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457200" y="1125360"/>
            <a:ext cx="851544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У одраслом добу, међутим, поремећај подношења глутена, било са се до тада испољавао или не, може  бити узрок</a:t>
            </a:r>
            <a:r>
              <a:rPr b="0" i="1" lang="sr-Latn-C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♦ </a:t>
            </a:r>
            <a:r>
              <a:rPr b="0" lang="sr-R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стерилитета код младих људ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♦ </a:t>
            </a:r>
            <a:r>
              <a:rPr b="0" lang="sr-R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код старијих особа узрок остеопоро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♦ </a:t>
            </a:r>
            <a:r>
              <a:rPr b="0" lang="sr-R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нехочкинског</a:t>
            </a:r>
            <a:r>
              <a:rPr b="0" lang="sr-Latn-C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 (non-Hodgkin)</a:t>
            </a:r>
            <a:r>
              <a:rPr b="0" lang="sr-R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 лимфома танког цре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♦ </a:t>
            </a:r>
            <a:r>
              <a:rPr b="0" lang="sr-RS" sz="2600" spc="-1" strike="noStrike">
                <a:solidFill>
                  <a:srgbClr val="404040"/>
                </a:solidFill>
                <a:latin typeface="Arial"/>
                <a:ea typeface="Times New Roman"/>
              </a:rPr>
              <a:t>карцинома усне дупље, ждрела и једњака</a:t>
            </a:r>
            <a:r>
              <a:rPr b="0" i="1" lang="sr-Latn-CS" sz="2600" spc="-1" strike="noStrike">
                <a:solidFill>
                  <a:srgbClr val="222268"/>
                </a:solidFill>
                <a:latin typeface="Arial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503280" y="1447920"/>
            <a:ext cx="79930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ДИЈАГ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♦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Ендоскопска са патохистолошком анализом узорка слузнице танког црева пре увођења дијете без глутена је тзв,“златни стандард“ у дијагностици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9640" y="3933720"/>
            <a:ext cx="7956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♦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Серолошки показатељи болести, а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нтиглиадинска Аt IgG, IgМ, IgА у серуму, високо су осетљиви и специфични али немају апсолутну дијагностичку вредност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1031194_f520.jpg"/>
          <p:cNvPicPr/>
          <p:nvPr/>
        </p:nvPicPr>
        <p:blipFill>
          <a:blip r:embed="rId1"/>
          <a:stretch/>
        </p:blipFill>
        <p:spPr>
          <a:xfrm>
            <a:off x="11160" y="1344600"/>
            <a:ext cx="5640480" cy="5545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1" name="Rectangle 2"/>
          <p:cNvSpPr/>
          <p:nvPr/>
        </p:nvSpPr>
        <p:spPr>
          <a:xfrm>
            <a:off x="5651640" y="1523880"/>
            <a:ext cx="349236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a), b) – 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нормалан изглед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            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слузок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c),d) – 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измењен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    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слузница танког цре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    </a:t>
            </a:r>
            <a:r>
              <a:rPr b="0" lang="sr-R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код целијачне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57040" y="1143000"/>
            <a:ext cx="871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ЛЕЧЕЊЕ</a:t>
            </a:r>
            <a:r>
              <a:rPr b="0" i="1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♦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Целијачна болест захтева </a:t>
            </a:r>
            <a:r>
              <a:rPr b="1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доживотну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дијету без глу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♦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Код већине пацијената са симптоматским обликом болести, посебно одојчади и мале деце, неопходна је корекција недостатака микроелемената и витамина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,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нарочито </a:t>
            </a:r>
            <a:r>
              <a:rPr b="1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гвожђа и фо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72880" y="43164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♦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Код најтежих облика 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- i.v.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надокнада воде и електролита, парентерална исхрана, ГК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♦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Код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5 - 10%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болесника јавља се неподношење лактозе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–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привремена рестрикција лактозе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900000" y="1125360"/>
            <a:ext cx="72723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Намернице које нису дозвоњене у исхрани</a:t>
            </a:r>
            <a:r>
              <a:rPr b="1" i="1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♦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житарице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: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пшеница, раж, јечам, овас, зоб и њихови дери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♦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производи од горе наведених житарица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: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брашно, скроб, гриз, презле, мекиње, желатин, витамини, инстант пире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♦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месне прерађевине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: </a:t>
            </a:r>
            <a:r>
              <a:rPr b="0" lang="sr-R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кобасице, паштете, саламе</a:t>
            </a:r>
            <a:r>
              <a:rPr b="0" lang="sr-Latn-C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УЛОГ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T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СЛУЗНИЦЕ КАО БАРИЈЕР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лузница GIT велика баријера за пролазак А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Cl, пепсин ограничава дејство А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епителне ћелије (макрофаге, Ly, мастоцити, Nе, 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А заштитна улога, не везује се за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креција IgА + муцински омотач= мукозна имунска бариј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имфоидно ткиво (Pejerove плоче, лимфоидни фоликули колона, LGL, апендик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222268"/>
                </a:solidFill>
                <a:latin typeface="Arial"/>
              </a:rPr>
              <a:t>АЛЕРГИЈСКЕ РЕАКЦИЈЕ И</a:t>
            </a:r>
            <a:r>
              <a:rPr b="1" lang="sr-Latn-CS" sz="4400" spc="-1" strike="noStrike">
                <a:solidFill>
                  <a:srgbClr val="222268"/>
                </a:solidFill>
                <a:latin typeface="Arial"/>
              </a:rPr>
              <a:t>ЗАЗВАНЕ ЛЕКОВИМ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3580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70c0"/>
                </a:solidFill>
                <a:latin typeface="Arial"/>
              </a:rPr>
              <a:t>Проф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. </a:t>
            </a:r>
            <a:r>
              <a:rPr b="1" lang="sr-Latn-CS" sz="2800" spc="-1" strike="noStrike">
                <a:solidFill>
                  <a:srgbClr val="0070c0"/>
                </a:solidFill>
                <a:latin typeface="Arial"/>
              </a:rPr>
              <a:t>др Александра Томић-Луч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КЛАСИФИКАЦИЈА ПРЕМА ИМУНСКОМ МЕХАНИЗМ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0574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ип I- системска анафила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ртика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нгиое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ронхијална ас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лергијски рин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ип II- хемолизна а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ромбоцитопен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гранулоцит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терстициски нефритис (Methicillin,      Phenyto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КЛАСИФИКАЦИЈА ПРЕМА ИМУНСКОМ МЕХАНИЗМ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ип III- серумска болест-пеницилински ле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нафилактоидна пурп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упус лике сy-хидралазин, прокаинам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ип IV- контактни дермат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терстицијски пнеумонитис- блеомицин, нитрофурантоин,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епатоцелуларна оштећења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AI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анестет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цефаломиелитис-вирусне вакц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НЕОДГОВАРАЈУЋЕ РЕАКЦИЈЕ НА ЛЕКОВ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ЈЕ НЕЗАВИСНЕ ОД ЛЕ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сихогене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горшање симптома проузрокованих основном болешћу (вирусни егзантем код деце на антибиотској 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РЕАКЦИЈЕ У ВЕЗИ СА ЛЕКОВИ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520" y="17521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д болесника који нису преосетљиви на леков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дозир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токсични 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пожељни споредни 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теракције ле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Д БОЛЕСНИКА КОЈИ СУ ПРЕОС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Љ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ВИ НА ЛЕК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сеудоалергијске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диосинкразија -метабол. дефицит (недостатак Г-6-ПДХ      хемолитичка анем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унске реакције (учешће At ili T 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ФАКТОРИ СЕНЗИБИЛИЗАЦИЈЕ ВЕЗАНИ ЗА БОЛЕСНИ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арост ( најчешће 20-40го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л- ж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топијска конститу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атеће болести (инфективна мононуклеоза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L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осип на Аmpicilin, саркоидоза- контактни дерматитис, кориштење имноспресивних лекова већа могућност анафилактичке реак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ФАКТОРИ СЕНЗИБИЛИЗАЦИЈЕ ВЕЗАНИ ЗА ЛЕК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2209320"/>
            <a:ext cx="86104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аптенски молекули вежу се за протеине плаз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нтигенске детерминанте лекова (минор, мајор, бочних лана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лимеризација-стајањем раствира на собој тем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теинске нечисто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армацеутски дод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ФАКТОРИ СЕНЗИБИЛИЗАЦИЈЕ ВЕЗАНИ ЗА Л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озе лекова (велике, субдозиране доз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ужина примене лека (дуготрајно, понављање краткотерјне т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чин примене лека (паренетрално брже испољава манифеста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накрсна сензибилизација (пеницилин- цефалоспоринин, сулфонамиди, фарба за косу, локал анестетиц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намнез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дентификовати кориштене леко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реме од излагања лека до алерг.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редити тип алергијске реакције на основу клиничке сл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АСТ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жни тестови (прик, само ако је РАСТ 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ознопровокациони тестови (само код реакције тип I, ако је кожни тест негатива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9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sr-Latn-CS" sz="3200" spc="-1" strike="noStrike">
                <a:solidFill>
                  <a:srgbClr val="404040"/>
                </a:solidFill>
                <a:latin typeface="Arial"/>
              </a:rPr>
              <a:t>ТЕСТОВИ IN V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жни тестов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аног типа-прик, интрадермални, субкутани (+тест је доказ постојања IgЕ или директ. ослобађања медијатора запаљењ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зног типа-пач ретко се кор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ознопровокациони тестови- само код реакције тип I, ако је кожни тест негати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880" y="7617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нзибилизација на храну ( хуморалног или ћелијског типа) тип II рет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толеранција или псеудоалергија на хр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тивација мастоцита (имунски и неимунски механиз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ЕОДГОВАРАЈУЋЕ НЕТОКСИЧНЕ РЕАКЦИЈЕ НА ХРА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лергија на хр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рло вероватна алергија на хр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гућа алергија на хр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акције које нису нити алергија нити интолеранција на хр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ТЕСТОВИ </a:t>
            </a:r>
            <a:r>
              <a:rPr b="1" lang="sr-Latn-CS" sz="4000" spc="-1" strike="noStrike">
                <a:solidFill>
                  <a:srgbClr val="404040"/>
                </a:solidFill>
                <a:latin typeface="Arial"/>
              </a:rPr>
              <a:t>IN VI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Тип I 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купна IgЕ 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пецифична IgЕ Ат против мајор Аg детерминанти лекова (РАСТ тест). Ако је РАСТ тест + не радити ин виво тест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пецифична IgЕ Ат против минор Аg детерминанти лекова (РАСТ тест). Резултати непоузд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ТЕСТОВИ </a:t>
            </a:r>
            <a:r>
              <a:rPr b="1" lang="sr-Latn-CS" sz="4000" spc="-1" strike="noStrike">
                <a:solidFill>
                  <a:srgbClr val="404040"/>
                </a:solidFill>
                <a:latin typeface="Arial"/>
              </a:rPr>
              <a:t>IN VI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Тип II 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пецифична Ат класе IgG и IgМ (Coobs те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ест фиксације комплемента (Тр↓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Тип III 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дређивање 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Биопсија ткива са одређивањем C3 и 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Тип IV 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дређивање цито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ест лимфобласне трансформације Ly (одређивање сензибилисаних L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38080" y="685800"/>
            <a:ext cx="678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762120" y="826920"/>
            <a:ext cx="7238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ПРОВОКАЦИОНИ ТЕСТ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адити у хоспиталним услов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Тип I -реакције само ако је неопходно, ако је кожни тест негатив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Тип II и III реакције- не раде се због трајног оштећења тк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екидање узимања л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нтихистаминици, ГК и епинефрин- реакције тип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ГК- реакције тип II, III i I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ПРЕВЕНЦИЈ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880" y="24382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збегавање инкриминисаног л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риштење алтернативних ле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збегавање лекова који дају унакрсну сензибилиза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Десензибилизација на лекове (само ако је неопход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АЛЕРГИЈА НА ПЕНИЦИЛИНСКЕ ЛЕКОВ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236196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езгро молекула беталактамски прстен-хаптенски молек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ензилпеницилин-кристални Penici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каинбензилпеницилин-Јugoci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ензатинбензилпеницилин- Еxtenci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лусинтетски пеницилини- Аmоksicilin, Аmpici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Реакције према времену настајањ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2590920"/>
            <a:ext cx="815328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епосредне  ( 30min)- IgE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брзане (2-72h)- IgE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зне (после 72h)- IgG, IgM, IgA, spec 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Реакције према патофизиолошком механизм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5909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средоване имунолошким механизмима (специф Ат или 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сеудоалергијске реа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Микроцеребрална емболија-Hoigne-ov 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Алергијске реакције посредоване имунолошким механизм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742840"/>
            <a:ext cx="82296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ип I- анафилактички шок, бронхоспазам, уртикарија, ангиоед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ип II- хемолитичка анемија, тромбоцитопенија, агранулоцитоза, интерстицијски нефрит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ип III- серумска болест, анафилактоидна пурпура, Лупус лике с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ип IV- контактни дерматитис, интерстицијална бронхопнеумонија, хепатоцелуларна оште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пец Ат IgЕ на мајор Аg детерминанту пеницлилинских ле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пец Ат IgЕ на минор Аg детерминанту пеницлилинских ле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жни тест са мешавином мајор Аg детерминанти (тест P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жни тест са мешавином минор Аg детерминанти (тест МD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ознопровокациони тестови- само код реакције тип I, ако је кожни тест негати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12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ucm106158"/>
          <p:cNvPicPr/>
          <p:nvPr/>
        </p:nvPicPr>
        <p:blipFill>
          <a:blip r:embed="rId1"/>
          <a:stretch/>
        </p:blipFill>
        <p:spPr>
          <a:xfrm>
            <a:off x="1828800" y="466560"/>
            <a:ext cx="495288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ПРЕВЕНЦ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през због унакрсних реакција са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цефалоспорин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улфонамид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окалним анестетиком-новока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арбама за косу- урс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ознопровокационе тестове радити само ако је неопходно и завршити обавезно са пуном једнократном терапијском дозом лека.РЕЗУЛТАТИ ТЕСТА ВАЛИДНИ 6 МЕСЕ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ИНТОЛЕРАНЦИЈА НА АСПИРИН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28708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еимунски механизам реа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нхибиција COX и повећано стварање LТ-Е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нц LТ-Е4 у урину 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кретач интолеранције рецидивирајуће вирусне инф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Бронхијална аст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Алергијски рин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Анафилактични 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Ангиоед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Уртика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ерумска бол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нафилактоидна пурп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"Lupus like sy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27428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emolizna anem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ombocitopen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epatocelularna ošteć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etrsticijalni nefr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ntaktni deramt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ASPIRINSKI TRIAS- bronhijalna astma+intolerancija na aspirin+nazalna polipo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2060"/>
                </a:solidFill>
                <a:latin typeface="Arial"/>
              </a:rPr>
              <a:t>IgE</a:t>
            </a: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-зависна нутритивна алер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клиничком току се деле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Синдроме с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гл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танк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анафилактички шок, астма, ринитис, синдром оралне алергије (OAS) и ГИТ алергија, ангиоедем, уртикар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Синдроми који имају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ни и одложени настана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екцем, еозинофилни гастроентерити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иничка слика ГИТ алерг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убрзана перисталтика црева, изразито лучење мукуса, едем слузнице и секреција воде и електролита што води профузним, воденастим дијарејама са  губитком електрол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Latn-CS" sz="3200" spc="-1" strike="noStrike">
                <a:solidFill>
                  <a:srgbClr val="002060"/>
                </a:solidFill>
                <a:latin typeface="Arial"/>
              </a:rPr>
              <a:t>IgE-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независна нутритивна алергиј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560" y="18288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ндр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ентроколитиса (кравље млеко и соја)- бебе до 3 месеца- тип II, III или IV реак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раном изазван колитис (крављ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леко и соја)- деца 1 год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филтрација јејунума Е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емосидероза изазвана храном (млеко, јаја)- тип III или IV реакције. Рекурентне пнеумоније, крварењ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 хемосиде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Целијачна болест (глутенска енетропатија)-тип III реак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221520" y="2286000"/>
            <a:ext cx="2922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АЛЕРГИЈА НА ХР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чешће тип I и IV имуне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рални сy алергије- (тип I, воће, поврће. Често удружен са осетљивости на полен- унакрсна сензибилизација са оралним А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ронхијална астма-6%. Апсорбција јаја/ мелка из GIT-а или инхалација испарљивих молекула.Тип I или интолеранција на адити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ин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ртикарија  (акутна често) и ангиоед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истемска анафилакса –35%. Често након хране + физички зам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топијски дерматитис-храна погоршава атопијски дерматитис код де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ВРЛО ВЕРОВАТНА АЛЕРГИЈА НА ХР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240" y="25146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y ентроколитиса (кравље млеко и соја)- бебе до 3 месеца- тип II, III или IV реак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раном изазван колитис (кравље млеко и соја)- деца 1 год. Инфилтрација јејунума Е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емосидероза изазвана храном (млеко, јаја)- тип III или IV реакције. Рекурентне пнеумоније, крварења GIT и хемосиде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Целијачна болест (глутенска енетропатија)-тип III реак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МОГУЋА АЛЕРГИЈА НА ХР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озинофилни гастроентер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ритабилни цревни sy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остатак лак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игрена провоцирана храном- вазоактивни ам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НИЈЕ АЛЕРГИЈА НА ХР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hronova бол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ерактивно понашање де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толеранција на адитиве у х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eksandra</dc:creator>
  <dc:description/>
  <dc:language>en-US</dc:language>
  <cp:lastModifiedBy>ismail - [2010]</cp:lastModifiedBy>
  <dcterms:modified xsi:type="dcterms:W3CDTF">2018-01-29T19:55:42Z</dcterms:modified>
  <cp:revision>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